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505-C62A-45FF-BAF2-499E249F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C6C-05AC-4D66-8A4F-1631053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7C9-005F-4EBF-91A1-40536DB4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C78-70B9-4259-BDF3-55041F95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CA0D-0502-44E9-91A0-04DCAA4C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1432-8B68-41F0-8FB4-C1ABD8F6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1EEF-488A-425D-AFD4-0286FEEE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059F-0310-4150-B186-F40F2DA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EFC-AE65-48E2-A983-59858C33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70B2-739B-40D0-94D8-135ED340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335C-F745-4371-8F03-C3B246C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63A-8AA5-403D-9C10-FE79D863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A7A-DDBB-4E60-B459-3B83072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7F65-035A-4FC8-B1C6-E17AC07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0A1B-CBD1-4FD1-B356-6A48E904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5FC-90C2-464A-8887-0A417764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3AA8-7383-411E-9FA2-46BFBF43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81B-F853-4E73-9526-81EC352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685-013B-4991-8355-75851442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AA4-8E37-4657-9032-0EFF5D0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D6F-9FFD-484F-AB4A-28DB9C2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52C-0A25-4B9B-8052-5A65D32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9DF-D292-4A0F-B571-54BFC25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367-562F-4623-BE7B-E3BFB1D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15A0-82F7-4A05-A6F5-B97EEC2C14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0DE-C0CF-4E53-92BD-9BCADE8146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Today’s Objective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Comic Sans MS"/>
              </a:rPr>
              <a:t>To be able to evaluate variable express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Comic Sans MS"/>
              </a:rPr>
              <a:t>What’s the difference between an expression and an equation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514600"/>
            <a:ext cx="5105520" cy="327672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17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Expressions compared to Equ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Expression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8y,   16a/b,   4r + s,    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Equation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3x + 4 =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3r = 9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Vocabulary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Variable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= A letter or symbol that is used to represent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Evaluating an expression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= Replacing all the variables in an expression with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Value of an expression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= The result of the expression when you evaluate i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748640" y="1676520"/>
          <a:ext cx="139536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8640" y="1676520"/>
                    <a:ext cx="13953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Steps for evaluating express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3505320" cy="1556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rite the express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3276360" cy="1556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stitute the valu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4267080"/>
            <a:ext cx="3352680" cy="2287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mplify the express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1.) Evaluate 5x + 4y  </a:t>
            </a: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when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x = 3</a:t>
            </a: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y = 2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5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+ 4</a:t>
            </a: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5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) + 4(</a:t>
            </a: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)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600200" y="1143000"/>
            <a:ext cx="2819520" cy="167652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114800" y="1295280"/>
            <a:ext cx="3124080" cy="152424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886200"/>
            <a:ext cx="5791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15 +    8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23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48640" y="4199040"/>
            <a:ext cx="1395360" cy="265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2.) Evaluate x + (2x -1)  </a:t>
            </a:r>
            <a:br>
              <a:rPr sz="6000"/>
            </a:b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when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x = 3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+ (2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-1)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+ (2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) - 1)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040" y="1752480"/>
            <a:ext cx="3962520" cy="182880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76360" y="1828800"/>
            <a:ext cx="1600200" cy="175248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87680"/>
            <a:ext cx="3962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3 +     5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48640" y="4199040"/>
            <a:ext cx="1395360" cy="265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Vocabulary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the expression 3x + 2,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called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terms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the express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the expression 4x ,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re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actors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the express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What’s the difference between a term and a factor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3.) Find the distance traveled using the distance formula        d = rt,  when r = 75 &amp; t = 1.5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 = rt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 =(75)(1.5)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285640" y="2362320"/>
            <a:ext cx="1981080" cy="182880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33920" y="2438280"/>
            <a:ext cx="3124080" cy="1752840"/>
          </a:xfrm>
          <a:prstGeom prst="line">
            <a:avLst/>
          </a:prstGeom>
          <a:ln w="57240">
            <a:solidFill>
              <a:srgbClr val="66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257800"/>
            <a:ext cx="396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 = 112.5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0"/>
            <a:ext cx="5562720" cy="3276720"/>
          </a:xfrm>
          <a:prstGeom prst="cloudCallout">
            <a:avLst>
              <a:gd name="adj1" fmla="val -60361"/>
              <a:gd name="adj2" fmla="val 8187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stitute   75 for r and 1.5 for 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48640" y="4199040"/>
            <a:ext cx="1395360" cy="26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0:20:56Z</dcterms:created>
  <dc:creator>flowing wells</dc:creator>
  <dc:description/>
  <dc:language>en-US</dc:language>
  <cp:lastModifiedBy>Test0</cp:lastModifiedBy>
  <dcterms:modified xsi:type="dcterms:W3CDTF">2002-07-01T15:20:33Z</dcterms:modified>
  <cp:revision>20</cp:revision>
  <dc:subject/>
  <dc:title>Bellwork 8/18</dc:title>
</cp:coreProperties>
</file>